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5AE6-90AB-4CFA-B76D-3C581BA70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523E-0E3D-4197-A20D-699218D47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693B-11C6-4668-A832-7BBA2D080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D4C6-2CF2-40DB-A109-8A950BAAF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84AB-0753-462A-84E9-552BEBDD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B0FF-9C75-4A18-95AA-80BF01194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510C-D71E-4F2D-9F89-CD65EE3DA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2DA5-B39E-4F61-860C-C5E71BAA3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8F344-FEB3-46F3-8D2F-D7E7829C5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91EAA-7E3F-42C2-9BB8-1E47A2D2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7ED5-107A-4F1B-B1BC-4A2CF9B4B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4287-9A94-4F4D-AFCB-E7503EB3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4FA8-F425-4CD1-958F-BD609AAA8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5T15:03:15Z</dcterms:created>
  <dc:creator>Alumno</dc:creator>
  <dc:description/>
  <dc:language>en-US</dc:language>
  <cp:lastModifiedBy>INVES-S6600A</cp:lastModifiedBy>
  <dcterms:modified xsi:type="dcterms:W3CDTF">2010-11-17T19:10:47Z</dcterms:modified>
  <cp:revision>3</cp:revision>
  <dc:subject/>
  <dc:title>Diapositiva 1</dc:title>
</cp:coreProperties>
</file>